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jpeg" ContentType="image/jpeg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4.png" ContentType="image/png"/>
  <Override PartName="/ppt/media/image23.wmf" ContentType="image/x-wmf"/>
  <Override PartName="/ppt/media/image20.wmf" ContentType="image/x-wmf"/>
  <Override PartName="/ppt/media/image18.jpeg" ContentType="image/jpeg"/>
  <Override PartName="/ppt/media/image21.wmf" ContentType="image/x-wmf"/>
  <Override PartName="/ppt/media/image17.wmf" ContentType="image/x-wmf"/>
  <Override PartName="/ppt/media/image16.jpeg" ContentType="image/jpeg"/>
  <Override PartName="/ppt/media/image15.wmf" ContentType="image/x-wmf"/>
  <Override PartName="/ppt/media/image22.jpeg" ContentType="image/jpeg"/>
  <Override PartName="/ppt/media/image14.wmf" ContentType="image/x-wmf"/>
  <Override PartName="/ppt/media/image1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424A-B3C4-47FA-A16C-B82AA46E7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D888-AA58-4261-AF31-60322783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FE22-2638-4BB8-A8DD-5E3B4A3B5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C388-EA14-42AD-A8E4-0B28751B2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0297-BAED-49E7-A413-554AA885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7997-07DD-467C-B602-C640E631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3FA8-32DA-4039-AFAC-A40DB7AC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FD84-AF7A-452B-822E-8F881275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D45E-78A6-4B3C-A176-8F13DD52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11D3-F754-4045-9370-19C0112C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EA58-936A-4F01-8D86-A9A15F9D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94F5-0075-4396-BAFD-CF9ED258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ABDB-E2D7-4214-8ECC-37CB79255A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’s Interesting About ME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600200" y="1752480"/>
          <a:ext cx="6095880" cy="406404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ccff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Question #9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you like to do at rec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4" descr="MCBD10647_0000[1]"/>
          <p:cNvPicPr/>
          <p:nvPr/>
        </p:nvPicPr>
        <p:blipFill>
          <a:blip r:embed="rId1"/>
          <a:stretch/>
        </p:blipFill>
        <p:spPr>
          <a:xfrm>
            <a:off x="2514600" y="2971800"/>
            <a:ext cx="3886200" cy="295920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6">
            <a:hlinkClick r:id="" action="ppaction://hlinkshowjump?jump=firstslide"/>
          </p:cNvPr>
          <p:cNvSpPr/>
          <p:nvPr/>
        </p:nvSpPr>
        <p:spPr>
          <a:xfrm>
            <a:off x="8153280" y="5867280"/>
            <a:ext cx="662040" cy="73836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38360"/>
              <a:gd name="textAreaBottom" fmla="*/ 695520 h 738360"/>
            </a:gdLst>
            <a:ahLst/>
            <a:rect l="textAreaLeft" t="textAreaTop" r="textAreaRight" b="textAreaBottom"/>
            <a:pathLst>
              <a:path w="21600" h="24089">
                <a:moveTo>
                  <a:pt x="0" y="0"/>
                </a:moveTo>
                <a:lnTo>
                  <a:pt x="21600" y="0"/>
                </a:lnTo>
                <a:lnTo>
                  <a:pt x="21600" y="24089"/>
                </a:lnTo>
                <a:lnTo>
                  <a:pt x="0" y="24089"/>
                </a:lnTo>
                <a:close/>
              </a:path>
              <a:path fill="lightenLess" w="21600" h="240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9">
                <a:moveTo>
                  <a:pt x="21600" y="0"/>
                </a:moveTo>
                <a:lnTo>
                  <a:pt x="21600" y="24089"/>
                </a:lnTo>
                <a:lnTo>
                  <a:pt x="20200" y="22689"/>
                </a:lnTo>
                <a:lnTo>
                  <a:pt x="20200" y="1400"/>
                </a:lnTo>
                <a:close/>
              </a:path>
              <a:path fill="darkenLess" w="21600" h="24089">
                <a:moveTo>
                  <a:pt x="21600" y="24089"/>
                </a:moveTo>
                <a:lnTo>
                  <a:pt x="0" y="24089"/>
                </a:lnTo>
                <a:lnTo>
                  <a:pt x="1400" y="22689"/>
                </a:lnTo>
                <a:lnTo>
                  <a:pt x="20200" y="22689"/>
                </a:lnTo>
                <a:close/>
              </a:path>
              <a:path fill="lighten" w="21600" h="24089">
                <a:moveTo>
                  <a:pt x="0" y="240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9"/>
                </a:lnTo>
                <a:close/>
              </a:path>
              <a:path fill="darken" w="21600" h="24089">
                <a:moveTo>
                  <a:pt x="3794" y="12044"/>
                </a:moveTo>
                <a:lnTo>
                  <a:pt x="17806" y="5038"/>
                </a:lnTo>
                <a:lnTo>
                  <a:pt x="17806" y="19051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Question #1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your favorite place to vis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4" descr="j0335112"/>
          <p:cNvPicPr/>
          <p:nvPr/>
        </p:nvPicPr>
        <p:blipFill>
          <a:blip r:embed="rId1"/>
          <a:stretch/>
        </p:blipFill>
        <p:spPr>
          <a:xfrm>
            <a:off x="3124080" y="2971800"/>
            <a:ext cx="2895840" cy="28954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5">
            <a:hlinkClick r:id="" action="ppaction://hlinkshowjump?jump=firstslide"/>
          </p:cNvPr>
          <p:cNvSpPr/>
          <p:nvPr/>
        </p:nvSpPr>
        <p:spPr>
          <a:xfrm>
            <a:off x="8153280" y="5867280"/>
            <a:ext cx="662040" cy="73836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38360"/>
              <a:gd name="textAreaBottom" fmla="*/ 695520 h 738360"/>
            </a:gdLst>
            <a:ahLst/>
            <a:rect l="textAreaLeft" t="textAreaTop" r="textAreaRight" b="textAreaBottom"/>
            <a:pathLst>
              <a:path w="21600" h="24089">
                <a:moveTo>
                  <a:pt x="0" y="0"/>
                </a:moveTo>
                <a:lnTo>
                  <a:pt x="21600" y="0"/>
                </a:lnTo>
                <a:lnTo>
                  <a:pt x="21600" y="24089"/>
                </a:lnTo>
                <a:lnTo>
                  <a:pt x="0" y="24089"/>
                </a:lnTo>
                <a:close/>
              </a:path>
              <a:path fill="lightenLess" w="21600" h="240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9">
                <a:moveTo>
                  <a:pt x="21600" y="0"/>
                </a:moveTo>
                <a:lnTo>
                  <a:pt x="21600" y="24089"/>
                </a:lnTo>
                <a:lnTo>
                  <a:pt x="20200" y="22689"/>
                </a:lnTo>
                <a:lnTo>
                  <a:pt x="20200" y="1400"/>
                </a:lnTo>
                <a:close/>
              </a:path>
              <a:path fill="darkenLess" w="21600" h="24089">
                <a:moveTo>
                  <a:pt x="21600" y="24089"/>
                </a:moveTo>
                <a:lnTo>
                  <a:pt x="0" y="24089"/>
                </a:lnTo>
                <a:lnTo>
                  <a:pt x="1400" y="22689"/>
                </a:lnTo>
                <a:lnTo>
                  <a:pt x="20200" y="22689"/>
                </a:lnTo>
                <a:close/>
              </a:path>
              <a:path fill="lighten" w="21600" h="24089">
                <a:moveTo>
                  <a:pt x="0" y="240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9"/>
                </a:lnTo>
                <a:close/>
              </a:path>
              <a:path fill="darken" w="21600" h="24089">
                <a:moveTo>
                  <a:pt x="3794" y="12044"/>
                </a:moveTo>
                <a:lnTo>
                  <a:pt x="17806" y="5038"/>
                </a:lnTo>
                <a:lnTo>
                  <a:pt x="17806" y="19051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Question #11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you want to be when you grow u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6" descr="MCj03341820000[1]"/>
          <p:cNvPicPr/>
          <p:nvPr/>
        </p:nvPicPr>
        <p:blipFill>
          <a:blip r:embed="rId1"/>
          <a:stretch/>
        </p:blipFill>
        <p:spPr>
          <a:xfrm>
            <a:off x="1523880" y="3200400"/>
            <a:ext cx="1287720" cy="2819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MCj03340700000[1]"/>
          <p:cNvPicPr/>
          <p:nvPr/>
        </p:nvPicPr>
        <p:blipFill>
          <a:blip r:embed="rId2"/>
          <a:stretch/>
        </p:blipFill>
        <p:spPr>
          <a:xfrm>
            <a:off x="3429000" y="3276720"/>
            <a:ext cx="2168640" cy="2743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MCj03342080000[1]"/>
          <p:cNvPicPr/>
          <p:nvPr/>
        </p:nvPicPr>
        <p:blipFill>
          <a:blip r:embed="rId3"/>
          <a:stretch/>
        </p:blipFill>
        <p:spPr>
          <a:xfrm>
            <a:off x="5791320" y="3200400"/>
            <a:ext cx="1895400" cy="274320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9">
            <a:hlinkClick r:id="" action="ppaction://hlinkshowjump?jump=firstslide"/>
          </p:cNvPr>
          <p:cNvSpPr/>
          <p:nvPr/>
        </p:nvSpPr>
        <p:spPr>
          <a:xfrm>
            <a:off x="8153280" y="5867280"/>
            <a:ext cx="662040" cy="73836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38360"/>
              <a:gd name="textAreaBottom" fmla="*/ 695520 h 738360"/>
            </a:gdLst>
            <a:ahLst/>
            <a:rect l="textAreaLeft" t="textAreaTop" r="textAreaRight" b="textAreaBottom"/>
            <a:pathLst>
              <a:path w="21600" h="24089">
                <a:moveTo>
                  <a:pt x="0" y="0"/>
                </a:moveTo>
                <a:lnTo>
                  <a:pt x="21600" y="0"/>
                </a:lnTo>
                <a:lnTo>
                  <a:pt x="21600" y="24089"/>
                </a:lnTo>
                <a:lnTo>
                  <a:pt x="0" y="24089"/>
                </a:lnTo>
                <a:close/>
              </a:path>
              <a:path fill="lightenLess" w="21600" h="240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9">
                <a:moveTo>
                  <a:pt x="21600" y="0"/>
                </a:moveTo>
                <a:lnTo>
                  <a:pt x="21600" y="24089"/>
                </a:lnTo>
                <a:lnTo>
                  <a:pt x="20200" y="22689"/>
                </a:lnTo>
                <a:lnTo>
                  <a:pt x="20200" y="1400"/>
                </a:lnTo>
                <a:close/>
              </a:path>
              <a:path fill="darkenLess" w="21600" h="24089">
                <a:moveTo>
                  <a:pt x="21600" y="24089"/>
                </a:moveTo>
                <a:lnTo>
                  <a:pt x="0" y="24089"/>
                </a:lnTo>
                <a:lnTo>
                  <a:pt x="1400" y="22689"/>
                </a:lnTo>
                <a:lnTo>
                  <a:pt x="20200" y="22689"/>
                </a:lnTo>
                <a:close/>
              </a:path>
              <a:path fill="lighten" w="21600" h="24089">
                <a:moveTo>
                  <a:pt x="0" y="240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9"/>
                </a:lnTo>
                <a:close/>
              </a:path>
              <a:path fill="darken" w="21600" h="24089">
                <a:moveTo>
                  <a:pt x="3794" y="12044"/>
                </a:moveTo>
                <a:lnTo>
                  <a:pt x="17806" y="5038"/>
                </a:lnTo>
                <a:lnTo>
                  <a:pt x="17806" y="19051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Question #12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your earliest mem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4" descr="MCj04300450000[1]"/>
          <p:cNvPicPr/>
          <p:nvPr/>
        </p:nvPicPr>
        <p:blipFill>
          <a:blip r:embed="rId1"/>
          <a:stretch/>
        </p:blipFill>
        <p:spPr>
          <a:xfrm>
            <a:off x="3343320" y="2819520"/>
            <a:ext cx="2523960" cy="297180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5">
            <a:hlinkClick r:id="" action="ppaction://hlinkshowjump?jump=firstslide"/>
          </p:cNvPr>
          <p:cNvSpPr/>
          <p:nvPr/>
        </p:nvSpPr>
        <p:spPr>
          <a:xfrm>
            <a:off x="8153280" y="5867280"/>
            <a:ext cx="662040" cy="73836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38360"/>
              <a:gd name="textAreaBottom" fmla="*/ 695520 h 738360"/>
            </a:gdLst>
            <a:ahLst/>
            <a:rect l="textAreaLeft" t="textAreaTop" r="textAreaRight" b="textAreaBottom"/>
            <a:pathLst>
              <a:path w="21600" h="24089">
                <a:moveTo>
                  <a:pt x="0" y="0"/>
                </a:moveTo>
                <a:lnTo>
                  <a:pt x="21600" y="0"/>
                </a:lnTo>
                <a:lnTo>
                  <a:pt x="21600" y="24089"/>
                </a:lnTo>
                <a:lnTo>
                  <a:pt x="0" y="24089"/>
                </a:lnTo>
                <a:close/>
              </a:path>
              <a:path fill="lightenLess" w="21600" h="240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9">
                <a:moveTo>
                  <a:pt x="21600" y="0"/>
                </a:moveTo>
                <a:lnTo>
                  <a:pt x="21600" y="24089"/>
                </a:lnTo>
                <a:lnTo>
                  <a:pt x="20200" y="22689"/>
                </a:lnTo>
                <a:lnTo>
                  <a:pt x="20200" y="1400"/>
                </a:lnTo>
                <a:close/>
              </a:path>
              <a:path fill="darkenLess" w="21600" h="24089">
                <a:moveTo>
                  <a:pt x="21600" y="24089"/>
                </a:moveTo>
                <a:lnTo>
                  <a:pt x="0" y="24089"/>
                </a:lnTo>
                <a:lnTo>
                  <a:pt x="1400" y="22689"/>
                </a:lnTo>
                <a:lnTo>
                  <a:pt x="20200" y="22689"/>
                </a:lnTo>
                <a:close/>
              </a:path>
              <a:path fill="lighten" w="21600" h="24089">
                <a:moveTo>
                  <a:pt x="0" y="240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9"/>
                </a:lnTo>
                <a:close/>
              </a:path>
              <a:path fill="darken" w="21600" h="24089">
                <a:moveTo>
                  <a:pt x="3794" y="12044"/>
                </a:moveTo>
                <a:lnTo>
                  <a:pt x="17806" y="5038"/>
                </a:lnTo>
                <a:lnTo>
                  <a:pt x="17806" y="19051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Question #13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 you have a special birthday party memory…either yours or someone else’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9" descr="MCj02956920000[1]"/>
          <p:cNvPicPr/>
          <p:nvPr/>
        </p:nvPicPr>
        <p:blipFill>
          <a:blip r:embed="rId1"/>
          <a:stretch/>
        </p:blipFill>
        <p:spPr>
          <a:xfrm>
            <a:off x="3200400" y="3352680"/>
            <a:ext cx="2705040" cy="289584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10">
            <a:hlinkClick r:id="" action="ppaction://hlinkshowjump?jump=firstslide"/>
          </p:cNvPr>
          <p:cNvSpPr/>
          <p:nvPr/>
        </p:nvSpPr>
        <p:spPr>
          <a:xfrm>
            <a:off x="8153280" y="5867280"/>
            <a:ext cx="662040" cy="73836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38360"/>
              <a:gd name="textAreaBottom" fmla="*/ 695520 h 738360"/>
            </a:gdLst>
            <a:ahLst/>
            <a:rect l="textAreaLeft" t="textAreaTop" r="textAreaRight" b="textAreaBottom"/>
            <a:pathLst>
              <a:path w="21600" h="24089">
                <a:moveTo>
                  <a:pt x="0" y="0"/>
                </a:moveTo>
                <a:lnTo>
                  <a:pt x="21600" y="0"/>
                </a:lnTo>
                <a:lnTo>
                  <a:pt x="21600" y="24089"/>
                </a:lnTo>
                <a:lnTo>
                  <a:pt x="0" y="24089"/>
                </a:lnTo>
                <a:close/>
              </a:path>
              <a:path fill="lightenLess" w="21600" h="240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9">
                <a:moveTo>
                  <a:pt x="21600" y="0"/>
                </a:moveTo>
                <a:lnTo>
                  <a:pt x="21600" y="24089"/>
                </a:lnTo>
                <a:lnTo>
                  <a:pt x="20200" y="22689"/>
                </a:lnTo>
                <a:lnTo>
                  <a:pt x="20200" y="1400"/>
                </a:lnTo>
                <a:close/>
              </a:path>
              <a:path fill="darkenLess" w="21600" h="24089">
                <a:moveTo>
                  <a:pt x="21600" y="24089"/>
                </a:moveTo>
                <a:lnTo>
                  <a:pt x="0" y="24089"/>
                </a:lnTo>
                <a:lnTo>
                  <a:pt x="1400" y="22689"/>
                </a:lnTo>
                <a:lnTo>
                  <a:pt x="20200" y="22689"/>
                </a:lnTo>
                <a:close/>
              </a:path>
              <a:path fill="lighten" w="21600" h="24089">
                <a:moveTo>
                  <a:pt x="0" y="240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9"/>
                </a:lnTo>
                <a:close/>
              </a:path>
              <a:path fill="darken" w="21600" h="24089">
                <a:moveTo>
                  <a:pt x="3794" y="12044"/>
                </a:moveTo>
                <a:lnTo>
                  <a:pt x="17806" y="5038"/>
                </a:lnTo>
                <a:lnTo>
                  <a:pt x="17806" y="19051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Question #14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you like about yoursel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4" descr="MPj04395080000[1]"/>
          <p:cNvPicPr/>
          <p:nvPr/>
        </p:nvPicPr>
        <p:blipFill>
          <a:blip r:embed="rId1"/>
          <a:stretch/>
        </p:blipFill>
        <p:spPr>
          <a:xfrm>
            <a:off x="3276720" y="2666880"/>
            <a:ext cx="2714400" cy="350532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6">
            <a:hlinkClick r:id="" action="ppaction://hlinkshowjump?jump=firstslide"/>
          </p:cNvPr>
          <p:cNvSpPr/>
          <p:nvPr/>
        </p:nvSpPr>
        <p:spPr>
          <a:xfrm>
            <a:off x="8153280" y="5867280"/>
            <a:ext cx="662040" cy="73836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38360"/>
              <a:gd name="textAreaBottom" fmla="*/ 695520 h 738360"/>
            </a:gdLst>
            <a:ahLst/>
            <a:rect l="textAreaLeft" t="textAreaTop" r="textAreaRight" b="textAreaBottom"/>
            <a:pathLst>
              <a:path w="21600" h="24089">
                <a:moveTo>
                  <a:pt x="0" y="0"/>
                </a:moveTo>
                <a:lnTo>
                  <a:pt x="21600" y="0"/>
                </a:lnTo>
                <a:lnTo>
                  <a:pt x="21600" y="24089"/>
                </a:lnTo>
                <a:lnTo>
                  <a:pt x="0" y="24089"/>
                </a:lnTo>
                <a:close/>
              </a:path>
              <a:path fill="lightenLess" w="21600" h="240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9">
                <a:moveTo>
                  <a:pt x="21600" y="0"/>
                </a:moveTo>
                <a:lnTo>
                  <a:pt x="21600" y="24089"/>
                </a:lnTo>
                <a:lnTo>
                  <a:pt x="20200" y="22689"/>
                </a:lnTo>
                <a:lnTo>
                  <a:pt x="20200" y="1400"/>
                </a:lnTo>
                <a:close/>
              </a:path>
              <a:path fill="darkenLess" w="21600" h="24089">
                <a:moveTo>
                  <a:pt x="21600" y="24089"/>
                </a:moveTo>
                <a:lnTo>
                  <a:pt x="0" y="24089"/>
                </a:lnTo>
                <a:lnTo>
                  <a:pt x="1400" y="22689"/>
                </a:lnTo>
                <a:lnTo>
                  <a:pt x="20200" y="22689"/>
                </a:lnTo>
                <a:close/>
              </a:path>
              <a:path fill="lighten" w="21600" h="24089">
                <a:moveTo>
                  <a:pt x="0" y="240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9"/>
                </a:lnTo>
                <a:close/>
              </a:path>
              <a:path fill="darken" w="21600" h="24089">
                <a:moveTo>
                  <a:pt x="3794" y="12044"/>
                </a:moveTo>
                <a:lnTo>
                  <a:pt x="17806" y="5038"/>
                </a:lnTo>
                <a:lnTo>
                  <a:pt x="17806" y="19051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Question #1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818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lk about a time you went somewhere, but not in a car…a plane? A train? A motorcycle? A boa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5" descr="MCj04250260000[1]"/>
          <p:cNvPicPr/>
          <p:nvPr/>
        </p:nvPicPr>
        <p:blipFill>
          <a:blip r:embed="rId1"/>
          <a:stretch/>
        </p:blipFill>
        <p:spPr>
          <a:xfrm>
            <a:off x="3200400" y="3733920"/>
            <a:ext cx="2666880" cy="26002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6">
            <a:hlinkClick r:id="" action="ppaction://hlinkshowjump?jump=firstslide"/>
          </p:cNvPr>
          <p:cNvSpPr/>
          <p:nvPr/>
        </p:nvSpPr>
        <p:spPr>
          <a:xfrm>
            <a:off x="8153280" y="5867280"/>
            <a:ext cx="662040" cy="73836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38360"/>
              <a:gd name="textAreaBottom" fmla="*/ 695520 h 738360"/>
            </a:gdLst>
            <a:ahLst/>
            <a:rect l="textAreaLeft" t="textAreaTop" r="textAreaRight" b="textAreaBottom"/>
            <a:pathLst>
              <a:path w="21600" h="24089">
                <a:moveTo>
                  <a:pt x="0" y="0"/>
                </a:moveTo>
                <a:lnTo>
                  <a:pt x="21600" y="0"/>
                </a:lnTo>
                <a:lnTo>
                  <a:pt x="21600" y="24089"/>
                </a:lnTo>
                <a:lnTo>
                  <a:pt x="0" y="24089"/>
                </a:lnTo>
                <a:close/>
              </a:path>
              <a:path fill="lightenLess" w="21600" h="240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9">
                <a:moveTo>
                  <a:pt x="21600" y="0"/>
                </a:moveTo>
                <a:lnTo>
                  <a:pt x="21600" y="24089"/>
                </a:lnTo>
                <a:lnTo>
                  <a:pt x="20200" y="22689"/>
                </a:lnTo>
                <a:lnTo>
                  <a:pt x="20200" y="1400"/>
                </a:lnTo>
                <a:close/>
              </a:path>
              <a:path fill="darkenLess" w="21600" h="24089">
                <a:moveTo>
                  <a:pt x="21600" y="24089"/>
                </a:moveTo>
                <a:lnTo>
                  <a:pt x="0" y="24089"/>
                </a:lnTo>
                <a:lnTo>
                  <a:pt x="1400" y="22689"/>
                </a:lnTo>
                <a:lnTo>
                  <a:pt x="20200" y="22689"/>
                </a:lnTo>
                <a:close/>
              </a:path>
              <a:path fill="lighten" w="21600" h="24089">
                <a:moveTo>
                  <a:pt x="0" y="240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9"/>
                </a:lnTo>
                <a:close/>
              </a:path>
              <a:path fill="darken" w="21600" h="24089">
                <a:moveTo>
                  <a:pt x="3794" y="12044"/>
                </a:moveTo>
                <a:lnTo>
                  <a:pt x="17806" y="5038"/>
                </a:lnTo>
                <a:lnTo>
                  <a:pt x="17806" y="19051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Question #16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your favorite kind of weath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6" descr="MPj04372900000[1]"/>
          <p:cNvPicPr/>
          <p:nvPr/>
        </p:nvPicPr>
        <p:blipFill>
          <a:blip r:embed="rId1"/>
          <a:stretch/>
        </p:blipFill>
        <p:spPr>
          <a:xfrm>
            <a:off x="2743200" y="2819520"/>
            <a:ext cx="3660840" cy="36576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7">
            <a:hlinkClick r:id="" action="ppaction://hlinkshowjump?jump=firstslide"/>
          </p:cNvPr>
          <p:cNvSpPr/>
          <p:nvPr/>
        </p:nvSpPr>
        <p:spPr>
          <a:xfrm>
            <a:off x="8153280" y="5867280"/>
            <a:ext cx="662040" cy="73836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38360"/>
              <a:gd name="textAreaBottom" fmla="*/ 695520 h 738360"/>
            </a:gdLst>
            <a:ahLst/>
            <a:rect l="textAreaLeft" t="textAreaTop" r="textAreaRight" b="textAreaBottom"/>
            <a:pathLst>
              <a:path w="21600" h="24089">
                <a:moveTo>
                  <a:pt x="0" y="0"/>
                </a:moveTo>
                <a:lnTo>
                  <a:pt x="21600" y="0"/>
                </a:lnTo>
                <a:lnTo>
                  <a:pt x="21600" y="24089"/>
                </a:lnTo>
                <a:lnTo>
                  <a:pt x="0" y="24089"/>
                </a:lnTo>
                <a:close/>
              </a:path>
              <a:path fill="lightenLess" w="21600" h="240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9">
                <a:moveTo>
                  <a:pt x="21600" y="0"/>
                </a:moveTo>
                <a:lnTo>
                  <a:pt x="21600" y="24089"/>
                </a:lnTo>
                <a:lnTo>
                  <a:pt x="20200" y="22689"/>
                </a:lnTo>
                <a:lnTo>
                  <a:pt x="20200" y="1400"/>
                </a:lnTo>
                <a:close/>
              </a:path>
              <a:path fill="darkenLess" w="21600" h="24089">
                <a:moveTo>
                  <a:pt x="21600" y="24089"/>
                </a:moveTo>
                <a:lnTo>
                  <a:pt x="0" y="24089"/>
                </a:lnTo>
                <a:lnTo>
                  <a:pt x="1400" y="22689"/>
                </a:lnTo>
                <a:lnTo>
                  <a:pt x="20200" y="22689"/>
                </a:lnTo>
                <a:close/>
              </a:path>
              <a:path fill="lighten" w="21600" h="24089">
                <a:moveTo>
                  <a:pt x="0" y="240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9"/>
                </a:lnTo>
                <a:close/>
              </a:path>
              <a:path fill="darken" w="21600" h="24089">
                <a:moveTo>
                  <a:pt x="3794" y="12044"/>
                </a:moveTo>
                <a:lnTo>
                  <a:pt x="17806" y="5038"/>
                </a:lnTo>
                <a:lnTo>
                  <a:pt x="17806" y="19051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Question #17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your favorite picture book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9" descr="MPj04395260000[1]"/>
          <p:cNvPicPr/>
          <p:nvPr/>
        </p:nvPicPr>
        <p:blipFill>
          <a:blip r:embed="rId1"/>
          <a:stretch/>
        </p:blipFill>
        <p:spPr>
          <a:xfrm>
            <a:off x="2286000" y="3124080"/>
            <a:ext cx="4572000" cy="314352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0">
            <a:hlinkClick r:id="" action="ppaction://hlinkshowjump?jump=firstslide"/>
          </p:cNvPr>
          <p:cNvSpPr/>
          <p:nvPr/>
        </p:nvSpPr>
        <p:spPr>
          <a:xfrm>
            <a:off x="8153280" y="5867280"/>
            <a:ext cx="662040" cy="73836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38360"/>
              <a:gd name="textAreaBottom" fmla="*/ 695520 h 738360"/>
            </a:gdLst>
            <a:ahLst/>
            <a:rect l="textAreaLeft" t="textAreaTop" r="textAreaRight" b="textAreaBottom"/>
            <a:pathLst>
              <a:path w="21600" h="24089">
                <a:moveTo>
                  <a:pt x="0" y="0"/>
                </a:moveTo>
                <a:lnTo>
                  <a:pt x="21600" y="0"/>
                </a:lnTo>
                <a:lnTo>
                  <a:pt x="21600" y="24089"/>
                </a:lnTo>
                <a:lnTo>
                  <a:pt x="0" y="24089"/>
                </a:lnTo>
                <a:close/>
              </a:path>
              <a:path fill="lightenLess" w="21600" h="240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9">
                <a:moveTo>
                  <a:pt x="21600" y="0"/>
                </a:moveTo>
                <a:lnTo>
                  <a:pt x="21600" y="24089"/>
                </a:lnTo>
                <a:lnTo>
                  <a:pt x="20200" y="22689"/>
                </a:lnTo>
                <a:lnTo>
                  <a:pt x="20200" y="1400"/>
                </a:lnTo>
                <a:close/>
              </a:path>
              <a:path fill="darkenLess" w="21600" h="24089">
                <a:moveTo>
                  <a:pt x="21600" y="24089"/>
                </a:moveTo>
                <a:lnTo>
                  <a:pt x="0" y="24089"/>
                </a:lnTo>
                <a:lnTo>
                  <a:pt x="1400" y="22689"/>
                </a:lnTo>
                <a:lnTo>
                  <a:pt x="20200" y="22689"/>
                </a:lnTo>
                <a:close/>
              </a:path>
              <a:path fill="lighten" w="21600" h="24089">
                <a:moveTo>
                  <a:pt x="0" y="240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9"/>
                </a:lnTo>
                <a:close/>
              </a:path>
              <a:path fill="darken" w="21600" h="24089">
                <a:moveTo>
                  <a:pt x="3794" y="12044"/>
                </a:moveTo>
                <a:lnTo>
                  <a:pt x="17806" y="5038"/>
                </a:lnTo>
                <a:lnTo>
                  <a:pt x="17806" y="19051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Question #18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you could trade places with a famous person, who would it b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j0199036"/>
          <p:cNvPicPr/>
          <p:nvPr/>
        </p:nvPicPr>
        <p:blipFill>
          <a:blip r:embed="rId1"/>
          <a:stretch/>
        </p:blipFill>
        <p:spPr>
          <a:xfrm>
            <a:off x="3124080" y="3200400"/>
            <a:ext cx="2697120" cy="297180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5">
            <a:hlinkClick r:id="" action="ppaction://hlinkshowjump?jump=firstslide"/>
          </p:cNvPr>
          <p:cNvSpPr/>
          <p:nvPr/>
        </p:nvSpPr>
        <p:spPr>
          <a:xfrm>
            <a:off x="8153280" y="5867280"/>
            <a:ext cx="662040" cy="73836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38360"/>
              <a:gd name="textAreaBottom" fmla="*/ 695520 h 738360"/>
            </a:gdLst>
            <a:ahLst/>
            <a:rect l="textAreaLeft" t="textAreaTop" r="textAreaRight" b="textAreaBottom"/>
            <a:pathLst>
              <a:path w="21600" h="24089">
                <a:moveTo>
                  <a:pt x="0" y="0"/>
                </a:moveTo>
                <a:lnTo>
                  <a:pt x="21600" y="0"/>
                </a:lnTo>
                <a:lnTo>
                  <a:pt x="21600" y="24089"/>
                </a:lnTo>
                <a:lnTo>
                  <a:pt x="0" y="24089"/>
                </a:lnTo>
                <a:close/>
              </a:path>
              <a:path fill="lightenLess" w="21600" h="240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9">
                <a:moveTo>
                  <a:pt x="21600" y="0"/>
                </a:moveTo>
                <a:lnTo>
                  <a:pt x="21600" y="24089"/>
                </a:lnTo>
                <a:lnTo>
                  <a:pt x="20200" y="22689"/>
                </a:lnTo>
                <a:lnTo>
                  <a:pt x="20200" y="1400"/>
                </a:lnTo>
                <a:close/>
              </a:path>
              <a:path fill="darkenLess" w="21600" h="24089">
                <a:moveTo>
                  <a:pt x="21600" y="24089"/>
                </a:moveTo>
                <a:lnTo>
                  <a:pt x="0" y="24089"/>
                </a:lnTo>
                <a:lnTo>
                  <a:pt x="1400" y="22689"/>
                </a:lnTo>
                <a:lnTo>
                  <a:pt x="20200" y="22689"/>
                </a:lnTo>
                <a:close/>
              </a:path>
              <a:path fill="lighten" w="21600" h="24089">
                <a:moveTo>
                  <a:pt x="0" y="240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9"/>
                </a:lnTo>
                <a:close/>
              </a:path>
              <a:path fill="darken" w="21600" h="24089">
                <a:moveTo>
                  <a:pt x="3794" y="12044"/>
                </a:moveTo>
                <a:lnTo>
                  <a:pt x="17806" y="5038"/>
                </a:lnTo>
                <a:lnTo>
                  <a:pt x="17806" y="19051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Question #1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me one thing you’re good a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5" descr="MCj03974540000[1]"/>
          <p:cNvPicPr/>
          <p:nvPr/>
        </p:nvPicPr>
        <p:blipFill>
          <a:blip r:embed="rId1"/>
          <a:stretch/>
        </p:blipFill>
        <p:spPr>
          <a:xfrm>
            <a:off x="2895480" y="2971800"/>
            <a:ext cx="3353040" cy="290664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9">
            <a:hlinkClick r:id="" action="ppaction://hlinkshowjump?jump=firstslide"/>
          </p:cNvPr>
          <p:cNvSpPr/>
          <p:nvPr/>
        </p:nvSpPr>
        <p:spPr>
          <a:xfrm>
            <a:off x="8153280" y="5867280"/>
            <a:ext cx="662040" cy="73836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38360"/>
              <a:gd name="textAreaBottom" fmla="*/ 695520 h 738360"/>
            </a:gdLst>
            <a:ahLst/>
            <a:rect l="textAreaLeft" t="textAreaTop" r="textAreaRight" b="textAreaBottom"/>
            <a:pathLst>
              <a:path w="21600" h="24089">
                <a:moveTo>
                  <a:pt x="0" y="0"/>
                </a:moveTo>
                <a:lnTo>
                  <a:pt x="21600" y="0"/>
                </a:lnTo>
                <a:lnTo>
                  <a:pt x="21600" y="24089"/>
                </a:lnTo>
                <a:lnTo>
                  <a:pt x="0" y="24089"/>
                </a:lnTo>
                <a:close/>
              </a:path>
              <a:path fill="lightenLess" w="21600" h="240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9">
                <a:moveTo>
                  <a:pt x="21600" y="0"/>
                </a:moveTo>
                <a:lnTo>
                  <a:pt x="21600" y="24089"/>
                </a:lnTo>
                <a:lnTo>
                  <a:pt x="20200" y="22689"/>
                </a:lnTo>
                <a:lnTo>
                  <a:pt x="20200" y="1400"/>
                </a:lnTo>
                <a:close/>
              </a:path>
              <a:path fill="darkenLess" w="21600" h="24089">
                <a:moveTo>
                  <a:pt x="21600" y="24089"/>
                </a:moveTo>
                <a:lnTo>
                  <a:pt x="0" y="24089"/>
                </a:lnTo>
                <a:lnTo>
                  <a:pt x="1400" y="22689"/>
                </a:lnTo>
                <a:lnTo>
                  <a:pt x="20200" y="22689"/>
                </a:lnTo>
                <a:close/>
              </a:path>
              <a:path fill="lighten" w="21600" h="24089">
                <a:moveTo>
                  <a:pt x="0" y="240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9"/>
                </a:lnTo>
                <a:close/>
              </a:path>
              <a:path fill="darken" w="21600" h="24089">
                <a:moveTo>
                  <a:pt x="3794" y="12044"/>
                </a:moveTo>
                <a:lnTo>
                  <a:pt x="17806" y="5038"/>
                </a:lnTo>
                <a:lnTo>
                  <a:pt x="17806" y="19051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Question #19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lk about your happiest momen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5" descr="MCj04380750000[1]"/>
          <p:cNvPicPr/>
          <p:nvPr/>
        </p:nvPicPr>
        <p:blipFill>
          <a:blip r:embed="rId1"/>
          <a:stretch/>
        </p:blipFill>
        <p:spPr>
          <a:xfrm>
            <a:off x="2743200" y="2819520"/>
            <a:ext cx="3429000" cy="290196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6">
            <a:hlinkClick r:id="" action="ppaction://hlinkshowjump?jump=firstslide"/>
          </p:cNvPr>
          <p:cNvSpPr/>
          <p:nvPr/>
        </p:nvSpPr>
        <p:spPr>
          <a:xfrm>
            <a:off x="8153280" y="5867280"/>
            <a:ext cx="662040" cy="73836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38360"/>
              <a:gd name="textAreaBottom" fmla="*/ 695520 h 738360"/>
            </a:gdLst>
            <a:ahLst/>
            <a:rect l="textAreaLeft" t="textAreaTop" r="textAreaRight" b="textAreaBottom"/>
            <a:pathLst>
              <a:path w="21600" h="24089">
                <a:moveTo>
                  <a:pt x="0" y="0"/>
                </a:moveTo>
                <a:lnTo>
                  <a:pt x="21600" y="0"/>
                </a:lnTo>
                <a:lnTo>
                  <a:pt x="21600" y="24089"/>
                </a:lnTo>
                <a:lnTo>
                  <a:pt x="0" y="24089"/>
                </a:lnTo>
                <a:close/>
              </a:path>
              <a:path fill="lightenLess" w="21600" h="240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9">
                <a:moveTo>
                  <a:pt x="21600" y="0"/>
                </a:moveTo>
                <a:lnTo>
                  <a:pt x="21600" y="24089"/>
                </a:lnTo>
                <a:lnTo>
                  <a:pt x="20200" y="22689"/>
                </a:lnTo>
                <a:lnTo>
                  <a:pt x="20200" y="1400"/>
                </a:lnTo>
                <a:close/>
              </a:path>
              <a:path fill="darkenLess" w="21600" h="24089">
                <a:moveTo>
                  <a:pt x="21600" y="24089"/>
                </a:moveTo>
                <a:lnTo>
                  <a:pt x="0" y="24089"/>
                </a:lnTo>
                <a:lnTo>
                  <a:pt x="1400" y="22689"/>
                </a:lnTo>
                <a:lnTo>
                  <a:pt x="20200" y="22689"/>
                </a:lnTo>
                <a:close/>
              </a:path>
              <a:path fill="lighten" w="21600" h="24089">
                <a:moveTo>
                  <a:pt x="0" y="240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9"/>
                </a:lnTo>
                <a:close/>
              </a:path>
              <a:path fill="darken" w="21600" h="24089">
                <a:moveTo>
                  <a:pt x="3794" y="12044"/>
                </a:moveTo>
                <a:lnTo>
                  <a:pt x="17806" y="5038"/>
                </a:lnTo>
                <a:lnTo>
                  <a:pt x="17806" y="19051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Question #20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do you like best about school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11" descr="MPj04394500000[1]"/>
          <p:cNvPicPr/>
          <p:nvPr/>
        </p:nvPicPr>
        <p:blipFill>
          <a:blip r:embed="rId1"/>
          <a:stretch/>
        </p:blipFill>
        <p:spPr>
          <a:xfrm>
            <a:off x="2895480" y="2743200"/>
            <a:ext cx="3429000" cy="331488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12">
            <a:hlinkClick r:id="" action="ppaction://hlinkshowjump?jump=firstslide"/>
          </p:cNvPr>
          <p:cNvSpPr/>
          <p:nvPr/>
        </p:nvSpPr>
        <p:spPr>
          <a:xfrm>
            <a:off x="8153280" y="5867280"/>
            <a:ext cx="662040" cy="73836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38360"/>
              <a:gd name="textAreaBottom" fmla="*/ 695520 h 738360"/>
            </a:gdLst>
            <a:ahLst/>
            <a:rect l="textAreaLeft" t="textAreaTop" r="textAreaRight" b="textAreaBottom"/>
            <a:pathLst>
              <a:path w="21600" h="24089">
                <a:moveTo>
                  <a:pt x="0" y="0"/>
                </a:moveTo>
                <a:lnTo>
                  <a:pt x="21600" y="0"/>
                </a:lnTo>
                <a:lnTo>
                  <a:pt x="21600" y="24089"/>
                </a:lnTo>
                <a:lnTo>
                  <a:pt x="0" y="24089"/>
                </a:lnTo>
                <a:close/>
              </a:path>
              <a:path fill="lightenLess" w="21600" h="240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9">
                <a:moveTo>
                  <a:pt x="21600" y="0"/>
                </a:moveTo>
                <a:lnTo>
                  <a:pt x="21600" y="24089"/>
                </a:lnTo>
                <a:lnTo>
                  <a:pt x="20200" y="22689"/>
                </a:lnTo>
                <a:lnTo>
                  <a:pt x="20200" y="1400"/>
                </a:lnTo>
                <a:close/>
              </a:path>
              <a:path fill="darkenLess" w="21600" h="24089">
                <a:moveTo>
                  <a:pt x="21600" y="24089"/>
                </a:moveTo>
                <a:lnTo>
                  <a:pt x="0" y="24089"/>
                </a:lnTo>
                <a:lnTo>
                  <a:pt x="1400" y="22689"/>
                </a:lnTo>
                <a:lnTo>
                  <a:pt x="20200" y="22689"/>
                </a:lnTo>
                <a:close/>
              </a:path>
              <a:path fill="lighten" w="21600" h="24089">
                <a:moveTo>
                  <a:pt x="0" y="240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9"/>
                </a:lnTo>
                <a:close/>
              </a:path>
              <a:path fill="darken" w="21600" h="24089">
                <a:moveTo>
                  <a:pt x="3794" y="12044"/>
                </a:moveTo>
                <a:lnTo>
                  <a:pt x="17806" y="5038"/>
                </a:lnTo>
                <a:lnTo>
                  <a:pt x="17806" y="19051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Question #21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your favorite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xtra points for singing it!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6" descr="MCj03974500000[1]"/>
          <p:cNvPicPr/>
          <p:nvPr/>
        </p:nvPicPr>
        <p:blipFill>
          <a:blip r:embed="rId1"/>
          <a:stretch/>
        </p:blipFill>
        <p:spPr>
          <a:xfrm>
            <a:off x="2819520" y="3200400"/>
            <a:ext cx="2819160" cy="281772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7">
            <a:hlinkClick r:id="" action="ppaction://hlinkshowjump?jump=firstslide"/>
          </p:cNvPr>
          <p:cNvSpPr/>
          <p:nvPr/>
        </p:nvSpPr>
        <p:spPr>
          <a:xfrm>
            <a:off x="8153280" y="5867280"/>
            <a:ext cx="662040" cy="73836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38360"/>
              <a:gd name="textAreaBottom" fmla="*/ 695520 h 738360"/>
            </a:gdLst>
            <a:ahLst/>
            <a:rect l="textAreaLeft" t="textAreaTop" r="textAreaRight" b="textAreaBottom"/>
            <a:pathLst>
              <a:path w="21600" h="24089">
                <a:moveTo>
                  <a:pt x="0" y="0"/>
                </a:moveTo>
                <a:lnTo>
                  <a:pt x="21600" y="0"/>
                </a:lnTo>
                <a:lnTo>
                  <a:pt x="21600" y="24089"/>
                </a:lnTo>
                <a:lnTo>
                  <a:pt x="0" y="24089"/>
                </a:lnTo>
                <a:close/>
              </a:path>
              <a:path fill="lightenLess" w="21600" h="240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9">
                <a:moveTo>
                  <a:pt x="21600" y="0"/>
                </a:moveTo>
                <a:lnTo>
                  <a:pt x="21600" y="24089"/>
                </a:lnTo>
                <a:lnTo>
                  <a:pt x="20200" y="22689"/>
                </a:lnTo>
                <a:lnTo>
                  <a:pt x="20200" y="1400"/>
                </a:lnTo>
                <a:close/>
              </a:path>
              <a:path fill="darkenLess" w="21600" h="24089">
                <a:moveTo>
                  <a:pt x="21600" y="24089"/>
                </a:moveTo>
                <a:lnTo>
                  <a:pt x="0" y="24089"/>
                </a:lnTo>
                <a:lnTo>
                  <a:pt x="1400" y="22689"/>
                </a:lnTo>
                <a:lnTo>
                  <a:pt x="20200" y="22689"/>
                </a:lnTo>
                <a:close/>
              </a:path>
              <a:path fill="lighten" w="21600" h="24089">
                <a:moveTo>
                  <a:pt x="0" y="240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9"/>
                </a:lnTo>
                <a:close/>
              </a:path>
              <a:path fill="darken" w="21600" h="24089">
                <a:moveTo>
                  <a:pt x="3794" y="12044"/>
                </a:moveTo>
                <a:lnTo>
                  <a:pt x="17806" y="5038"/>
                </a:lnTo>
                <a:lnTo>
                  <a:pt x="17806" y="19051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Question #22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you afraid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5" descr="MCj04362130000[1]"/>
          <p:cNvPicPr/>
          <p:nvPr/>
        </p:nvPicPr>
        <p:blipFill>
          <a:blip r:embed="rId1"/>
          <a:stretch/>
        </p:blipFill>
        <p:spPr>
          <a:xfrm>
            <a:off x="3200400" y="2971800"/>
            <a:ext cx="2560680" cy="312408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6">
            <a:hlinkClick r:id="" action="ppaction://hlinkshowjump?jump=firstslide"/>
          </p:cNvPr>
          <p:cNvSpPr/>
          <p:nvPr/>
        </p:nvSpPr>
        <p:spPr>
          <a:xfrm>
            <a:off x="8153280" y="5867280"/>
            <a:ext cx="662040" cy="73836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38360"/>
              <a:gd name="textAreaBottom" fmla="*/ 695520 h 738360"/>
            </a:gdLst>
            <a:ahLst/>
            <a:rect l="textAreaLeft" t="textAreaTop" r="textAreaRight" b="textAreaBottom"/>
            <a:pathLst>
              <a:path w="21600" h="24089">
                <a:moveTo>
                  <a:pt x="0" y="0"/>
                </a:moveTo>
                <a:lnTo>
                  <a:pt x="21600" y="0"/>
                </a:lnTo>
                <a:lnTo>
                  <a:pt x="21600" y="24089"/>
                </a:lnTo>
                <a:lnTo>
                  <a:pt x="0" y="24089"/>
                </a:lnTo>
                <a:close/>
              </a:path>
              <a:path fill="lightenLess" w="21600" h="240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9">
                <a:moveTo>
                  <a:pt x="21600" y="0"/>
                </a:moveTo>
                <a:lnTo>
                  <a:pt x="21600" y="24089"/>
                </a:lnTo>
                <a:lnTo>
                  <a:pt x="20200" y="22689"/>
                </a:lnTo>
                <a:lnTo>
                  <a:pt x="20200" y="1400"/>
                </a:lnTo>
                <a:close/>
              </a:path>
              <a:path fill="darkenLess" w="21600" h="24089">
                <a:moveTo>
                  <a:pt x="21600" y="24089"/>
                </a:moveTo>
                <a:lnTo>
                  <a:pt x="0" y="24089"/>
                </a:lnTo>
                <a:lnTo>
                  <a:pt x="1400" y="22689"/>
                </a:lnTo>
                <a:lnTo>
                  <a:pt x="20200" y="22689"/>
                </a:lnTo>
                <a:close/>
              </a:path>
              <a:path fill="lighten" w="21600" h="24089">
                <a:moveTo>
                  <a:pt x="0" y="240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9"/>
                </a:lnTo>
                <a:close/>
              </a:path>
              <a:path fill="darken" w="21600" h="24089">
                <a:moveTo>
                  <a:pt x="3794" y="12044"/>
                </a:moveTo>
                <a:lnTo>
                  <a:pt x="17806" y="5038"/>
                </a:lnTo>
                <a:lnTo>
                  <a:pt x="17806" y="19051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Question #23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 you prefer sports, music or ar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7" descr="MCBD09486_0000[1]"/>
          <p:cNvPicPr/>
          <p:nvPr/>
        </p:nvPicPr>
        <p:blipFill>
          <a:blip r:embed="rId1"/>
          <a:stretch/>
        </p:blipFill>
        <p:spPr>
          <a:xfrm>
            <a:off x="1676520" y="2590920"/>
            <a:ext cx="1788840" cy="1685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MCj04381630000[1]"/>
          <p:cNvPicPr/>
          <p:nvPr/>
        </p:nvPicPr>
        <p:blipFill>
          <a:blip r:embed="rId2"/>
          <a:stretch/>
        </p:blipFill>
        <p:spPr>
          <a:xfrm>
            <a:off x="3429000" y="4572000"/>
            <a:ext cx="1920960" cy="1308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MCj04398410000[1]"/>
          <p:cNvPicPr/>
          <p:nvPr/>
        </p:nvPicPr>
        <p:blipFill>
          <a:blip r:embed="rId3"/>
          <a:stretch/>
        </p:blipFill>
        <p:spPr>
          <a:xfrm>
            <a:off x="5638680" y="2666880"/>
            <a:ext cx="1819440" cy="185436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11">
            <a:hlinkClick r:id="" action="ppaction://hlinkshowjump?jump=firstslide"/>
          </p:cNvPr>
          <p:cNvSpPr/>
          <p:nvPr/>
        </p:nvSpPr>
        <p:spPr>
          <a:xfrm>
            <a:off x="8153280" y="5867280"/>
            <a:ext cx="662040" cy="73836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38360"/>
              <a:gd name="textAreaBottom" fmla="*/ 695520 h 738360"/>
            </a:gdLst>
            <a:ahLst/>
            <a:rect l="textAreaLeft" t="textAreaTop" r="textAreaRight" b="textAreaBottom"/>
            <a:pathLst>
              <a:path w="21600" h="24089">
                <a:moveTo>
                  <a:pt x="0" y="0"/>
                </a:moveTo>
                <a:lnTo>
                  <a:pt x="21600" y="0"/>
                </a:lnTo>
                <a:lnTo>
                  <a:pt x="21600" y="24089"/>
                </a:lnTo>
                <a:lnTo>
                  <a:pt x="0" y="24089"/>
                </a:lnTo>
                <a:close/>
              </a:path>
              <a:path fill="lightenLess" w="21600" h="240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9">
                <a:moveTo>
                  <a:pt x="21600" y="0"/>
                </a:moveTo>
                <a:lnTo>
                  <a:pt x="21600" y="24089"/>
                </a:lnTo>
                <a:lnTo>
                  <a:pt x="20200" y="22689"/>
                </a:lnTo>
                <a:lnTo>
                  <a:pt x="20200" y="1400"/>
                </a:lnTo>
                <a:close/>
              </a:path>
              <a:path fill="darkenLess" w="21600" h="24089">
                <a:moveTo>
                  <a:pt x="21600" y="24089"/>
                </a:moveTo>
                <a:lnTo>
                  <a:pt x="0" y="24089"/>
                </a:lnTo>
                <a:lnTo>
                  <a:pt x="1400" y="22689"/>
                </a:lnTo>
                <a:lnTo>
                  <a:pt x="20200" y="22689"/>
                </a:lnTo>
                <a:close/>
              </a:path>
              <a:path fill="lighten" w="21600" h="24089">
                <a:moveTo>
                  <a:pt x="0" y="240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9"/>
                </a:lnTo>
                <a:close/>
              </a:path>
              <a:path fill="darken" w="21600" h="24089">
                <a:moveTo>
                  <a:pt x="3794" y="12044"/>
                </a:moveTo>
                <a:lnTo>
                  <a:pt x="17806" y="5038"/>
                </a:lnTo>
                <a:lnTo>
                  <a:pt x="17806" y="19051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Question #24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you turn 16 and get your license, where’s the first place you’ll dri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1" descr="MCj02872760000[1]"/>
          <p:cNvPicPr/>
          <p:nvPr/>
        </p:nvPicPr>
        <p:blipFill>
          <a:blip r:embed="rId1"/>
          <a:stretch/>
        </p:blipFill>
        <p:spPr>
          <a:xfrm>
            <a:off x="2590920" y="3657600"/>
            <a:ext cx="3809880" cy="2619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12">
            <a:hlinkClick r:id="" action="ppaction://hlinkshowjump?jump=firstslide"/>
          </p:cNvPr>
          <p:cNvSpPr/>
          <p:nvPr/>
        </p:nvSpPr>
        <p:spPr>
          <a:xfrm>
            <a:off x="8153280" y="5867280"/>
            <a:ext cx="662040" cy="73836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38360"/>
              <a:gd name="textAreaBottom" fmla="*/ 695520 h 738360"/>
            </a:gdLst>
            <a:ahLst/>
            <a:rect l="textAreaLeft" t="textAreaTop" r="textAreaRight" b="textAreaBottom"/>
            <a:pathLst>
              <a:path w="21600" h="24089">
                <a:moveTo>
                  <a:pt x="0" y="0"/>
                </a:moveTo>
                <a:lnTo>
                  <a:pt x="21600" y="0"/>
                </a:lnTo>
                <a:lnTo>
                  <a:pt x="21600" y="24089"/>
                </a:lnTo>
                <a:lnTo>
                  <a:pt x="0" y="24089"/>
                </a:lnTo>
                <a:close/>
              </a:path>
              <a:path fill="lightenLess" w="21600" h="240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9">
                <a:moveTo>
                  <a:pt x="21600" y="0"/>
                </a:moveTo>
                <a:lnTo>
                  <a:pt x="21600" y="24089"/>
                </a:lnTo>
                <a:lnTo>
                  <a:pt x="20200" y="22689"/>
                </a:lnTo>
                <a:lnTo>
                  <a:pt x="20200" y="1400"/>
                </a:lnTo>
                <a:close/>
              </a:path>
              <a:path fill="darkenLess" w="21600" h="24089">
                <a:moveTo>
                  <a:pt x="21600" y="24089"/>
                </a:moveTo>
                <a:lnTo>
                  <a:pt x="0" y="24089"/>
                </a:lnTo>
                <a:lnTo>
                  <a:pt x="1400" y="22689"/>
                </a:lnTo>
                <a:lnTo>
                  <a:pt x="20200" y="22689"/>
                </a:lnTo>
                <a:close/>
              </a:path>
              <a:path fill="lighten" w="21600" h="24089">
                <a:moveTo>
                  <a:pt x="0" y="240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9"/>
                </a:lnTo>
                <a:close/>
              </a:path>
              <a:path fill="darken" w="21600" h="24089">
                <a:moveTo>
                  <a:pt x="3794" y="12044"/>
                </a:moveTo>
                <a:lnTo>
                  <a:pt x="17806" y="5038"/>
                </a:lnTo>
                <a:lnTo>
                  <a:pt x="17806" y="19051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Question #2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’s Saturday afternoon and it’s raining. What are you going to do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5" descr="MCj02299110000[1]"/>
          <p:cNvPicPr/>
          <p:nvPr/>
        </p:nvPicPr>
        <p:blipFill>
          <a:blip r:embed="rId1"/>
          <a:stretch/>
        </p:blipFill>
        <p:spPr>
          <a:xfrm>
            <a:off x="3200400" y="3429000"/>
            <a:ext cx="2732040" cy="289548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6">
            <a:hlinkClick r:id="" action="ppaction://hlinkshowjump?jump=firstslide"/>
          </p:cNvPr>
          <p:cNvSpPr/>
          <p:nvPr/>
        </p:nvSpPr>
        <p:spPr>
          <a:xfrm>
            <a:off x="8153280" y="5867280"/>
            <a:ext cx="662040" cy="73836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38360"/>
              <a:gd name="textAreaBottom" fmla="*/ 695520 h 738360"/>
            </a:gdLst>
            <a:ahLst/>
            <a:rect l="textAreaLeft" t="textAreaTop" r="textAreaRight" b="textAreaBottom"/>
            <a:pathLst>
              <a:path w="21600" h="24089">
                <a:moveTo>
                  <a:pt x="0" y="0"/>
                </a:moveTo>
                <a:lnTo>
                  <a:pt x="21600" y="0"/>
                </a:lnTo>
                <a:lnTo>
                  <a:pt x="21600" y="24089"/>
                </a:lnTo>
                <a:lnTo>
                  <a:pt x="0" y="24089"/>
                </a:lnTo>
                <a:close/>
              </a:path>
              <a:path fill="lightenLess" w="21600" h="240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9">
                <a:moveTo>
                  <a:pt x="21600" y="0"/>
                </a:moveTo>
                <a:lnTo>
                  <a:pt x="21600" y="24089"/>
                </a:lnTo>
                <a:lnTo>
                  <a:pt x="20200" y="22689"/>
                </a:lnTo>
                <a:lnTo>
                  <a:pt x="20200" y="1400"/>
                </a:lnTo>
                <a:close/>
              </a:path>
              <a:path fill="darkenLess" w="21600" h="24089">
                <a:moveTo>
                  <a:pt x="21600" y="24089"/>
                </a:moveTo>
                <a:lnTo>
                  <a:pt x="0" y="24089"/>
                </a:lnTo>
                <a:lnTo>
                  <a:pt x="1400" y="22689"/>
                </a:lnTo>
                <a:lnTo>
                  <a:pt x="20200" y="22689"/>
                </a:lnTo>
                <a:close/>
              </a:path>
              <a:path fill="lighten" w="21600" h="24089">
                <a:moveTo>
                  <a:pt x="0" y="240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9"/>
                </a:lnTo>
                <a:close/>
              </a:path>
              <a:path fill="darken" w="21600" h="24089">
                <a:moveTo>
                  <a:pt x="3794" y="12044"/>
                </a:moveTo>
                <a:lnTo>
                  <a:pt x="17806" y="5038"/>
                </a:lnTo>
                <a:lnTo>
                  <a:pt x="17806" y="19051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Question #2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ve you done that no one else here has d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4" descr="MCj04361490000[1]"/>
          <p:cNvPicPr/>
          <p:nvPr/>
        </p:nvPicPr>
        <p:blipFill>
          <a:blip r:embed="rId1"/>
          <a:stretch/>
        </p:blipFill>
        <p:spPr>
          <a:xfrm>
            <a:off x="2438280" y="3733920"/>
            <a:ext cx="4343400" cy="208116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>
            <a:hlinkClick r:id="" action="ppaction://hlinkshowjump?jump=firstslide"/>
          </p:cNvPr>
          <p:cNvSpPr/>
          <p:nvPr/>
        </p:nvSpPr>
        <p:spPr>
          <a:xfrm>
            <a:off x="8153280" y="5867280"/>
            <a:ext cx="662040" cy="73836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38360"/>
              <a:gd name="textAreaBottom" fmla="*/ 695520 h 738360"/>
            </a:gdLst>
            <a:ahLst/>
            <a:rect l="textAreaLeft" t="textAreaTop" r="textAreaRight" b="textAreaBottom"/>
            <a:pathLst>
              <a:path w="21600" h="24089">
                <a:moveTo>
                  <a:pt x="0" y="0"/>
                </a:moveTo>
                <a:lnTo>
                  <a:pt x="21600" y="0"/>
                </a:lnTo>
                <a:lnTo>
                  <a:pt x="21600" y="24089"/>
                </a:lnTo>
                <a:lnTo>
                  <a:pt x="0" y="24089"/>
                </a:lnTo>
                <a:close/>
              </a:path>
              <a:path fill="lightenLess" w="21600" h="240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9">
                <a:moveTo>
                  <a:pt x="21600" y="0"/>
                </a:moveTo>
                <a:lnTo>
                  <a:pt x="21600" y="24089"/>
                </a:lnTo>
                <a:lnTo>
                  <a:pt x="20200" y="22689"/>
                </a:lnTo>
                <a:lnTo>
                  <a:pt x="20200" y="1400"/>
                </a:lnTo>
                <a:close/>
              </a:path>
              <a:path fill="darkenLess" w="21600" h="24089">
                <a:moveTo>
                  <a:pt x="21600" y="24089"/>
                </a:moveTo>
                <a:lnTo>
                  <a:pt x="0" y="24089"/>
                </a:lnTo>
                <a:lnTo>
                  <a:pt x="1400" y="22689"/>
                </a:lnTo>
                <a:lnTo>
                  <a:pt x="20200" y="22689"/>
                </a:lnTo>
                <a:close/>
              </a:path>
              <a:path fill="lighten" w="21600" h="24089">
                <a:moveTo>
                  <a:pt x="0" y="240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9"/>
                </a:lnTo>
                <a:close/>
              </a:path>
              <a:path fill="darken" w="21600" h="24089">
                <a:moveTo>
                  <a:pt x="3794" y="12044"/>
                </a:moveTo>
                <a:lnTo>
                  <a:pt x="17806" y="5038"/>
                </a:lnTo>
                <a:lnTo>
                  <a:pt x="17806" y="19051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Question #3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your favorite memory of a grandparent or older relati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4" descr="MCj02405690000[1]"/>
          <p:cNvPicPr/>
          <p:nvPr/>
        </p:nvPicPr>
        <p:blipFill>
          <a:blip r:embed="rId1"/>
          <a:stretch/>
        </p:blipFill>
        <p:spPr>
          <a:xfrm>
            <a:off x="2819520" y="3276720"/>
            <a:ext cx="2739960" cy="289548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5">
            <a:hlinkClick r:id="" action="ppaction://hlinkshowjump?jump=firstslide"/>
          </p:cNvPr>
          <p:cNvSpPr/>
          <p:nvPr/>
        </p:nvSpPr>
        <p:spPr>
          <a:xfrm>
            <a:off x="8153280" y="5867280"/>
            <a:ext cx="662040" cy="73836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38360"/>
              <a:gd name="textAreaBottom" fmla="*/ 695520 h 738360"/>
            </a:gdLst>
            <a:ahLst/>
            <a:rect l="textAreaLeft" t="textAreaTop" r="textAreaRight" b="textAreaBottom"/>
            <a:pathLst>
              <a:path w="21600" h="24089">
                <a:moveTo>
                  <a:pt x="0" y="0"/>
                </a:moveTo>
                <a:lnTo>
                  <a:pt x="21600" y="0"/>
                </a:lnTo>
                <a:lnTo>
                  <a:pt x="21600" y="24089"/>
                </a:lnTo>
                <a:lnTo>
                  <a:pt x="0" y="24089"/>
                </a:lnTo>
                <a:close/>
              </a:path>
              <a:path fill="lightenLess" w="21600" h="240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9">
                <a:moveTo>
                  <a:pt x="21600" y="0"/>
                </a:moveTo>
                <a:lnTo>
                  <a:pt x="21600" y="24089"/>
                </a:lnTo>
                <a:lnTo>
                  <a:pt x="20200" y="22689"/>
                </a:lnTo>
                <a:lnTo>
                  <a:pt x="20200" y="1400"/>
                </a:lnTo>
                <a:close/>
              </a:path>
              <a:path fill="darkenLess" w="21600" h="24089">
                <a:moveTo>
                  <a:pt x="21600" y="24089"/>
                </a:moveTo>
                <a:lnTo>
                  <a:pt x="0" y="24089"/>
                </a:lnTo>
                <a:lnTo>
                  <a:pt x="1400" y="22689"/>
                </a:lnTo>
                <a:lnTo>
                  <a:pt x="20200" y="22689"/>
                </a:lnTo>
                <a:close/>
              </a:path>
              <a:path fill="lighten" w="21600" h="24089">
                <a:moveTo>
                  <a:pt x="0" y="240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9"/>
                </a:lnTo>
                <a:close/>
              </a:path>
              <a:path fill="darken" w="21600" h="24089">
                <a:moveTo>
                  <a:pt x="3794" y="12044"/>
                </a:moveTo>
                <a:lnTo>
                  <a:pt x="17806" y="5038"/>
                </a:lnTo>
                <a:lnTo>
                  <a:pt x="17806" y="19051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Question #4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ll us something interesting you’ve done with someone in your famil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5" descr="MCj02312830000[1]"/>
          <p:cNvPicPr/>
          <p:nvPr/>
        </p:nvPicPr>
        <p:blipFill>
          <a:blip r:embed="rId1"/>
          <a:stretch/>
        </p:blipFill>
        <p:spPr>
          <a:xfrm>
            <a:off x="2895480" y="3657600"/>
            <a:ext cx="3429000" cy="299088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6">
            <a:hlinkClick r:id="" action="ppaction://hlinkshowjump?jump=firstslide"/>
          </p:cNvPr>
          <p:cNvSpPr/>
          <p:nvPr/>
        </p:nvSpPr>
        <p:spPr>
          <a:xfrm>
            <a:off x="8153280" y="5867280"/>
            <a:ext cx="662040" cy="73836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38360"/>
              <a:gd name="textAreaBottom" fmla="*/ 695520 h 738360"/>
            </a:gdLst>
            <a:ahLst/>
            <a:rect l="textAreaLeft" t="textAreaTop" r="textAreaRight" b="textAreaBottom"/>
            <a:pathLst>
              <a:path w="21600" h="24089">
                <a:moveTo>
                  <a:pt x="0" y="0"/>
                </a:moveTo>
                <a:lnTo>
                  <a:pt x="21600" y="0"/>
                </a:lnTo>
                <a:lnTo>
                  <a:pt x="21600" y="24089"/>
                </a:lnTo>
                <a:lnTo>
                  <a:pt x="0" y="24089"/>
                </a:lnTo>
                <a:close/>
              </a:path>
              <a:path fill="lightenLess" w="21600" h="240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9">
                <a:moveTo>
                  <a:pt x="21600" y="0"/>
                </a:moveTo>
                <a:lnTo>
                  <a:pt x="21600" y="24089"/>
                </a:lnTo>
                <a:lnTo>
                  <a:pt x="20200" y="22689"/>
                </a:lnTo>
                <a:lnTo>
                  <a:pt x="20200" y="1400"/>
                </a:lnTo>
                <a:close/>
              </a:path>
              <a:path fill="darkenLess" w="21600" h="24089">
                <a:moveTo>
                  <a:pt x="21600" y="24089"/>
                </a:moveTo>
                <a:lnTo>
                  <a:pt x="0" y="24089"/>
                </a:lnTo>
                <a:lnTo>
                  <a:pt x="1400" y="22689"/>
                </a:lnTo>
                <a:lnTo>
                  <a:pt x="20200" y="22689"/>
                </a:lnTo>
                <a:close/>
              </a:path>
              <a:path fill="lighten" w="21600" h="24089">
                <a:moveTo>
                  <a:pt x="0" y="240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9"/>
                </a:lnTo>
                <a:close/>
              </a:path>
              <a:path fill="darken" w="21600" h="24089">
                <a:moveTo>
                  <a:pt x="3794" y="12044"/>
                </a:moveTo>
                <a:lnTo>
                  <a:pt x="17806" y="5038"/>
                </a:lnTo>
                <a:lnTo>
                  <a:pt x="17806" y="19051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Question #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you remember about Kindergart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" descr="MCBD07079_0000[1]"/>
          <p:cNvPicPr/>
          <p:nvPr/>
        </p:nvPicPr>
        <p:blipFill>
          <a:blip r:embed="rId1"/>
          <a:stretch/>
        </p:blipFill>
        <p:spPr>
          <a:xfrm>
            <a:off x="2895480" y="3200400"/>
            <a:ext cx="3200400" cy="302112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5">
            <a:hlinkClick r:id="" action="ppaction://hlinkshowjump?jump=firstslide"/>
          </p:cNvPr>
          <p:cNvSpPr/>
          <p:nvPr/>
        </p:nvSpPr>
        <p:spPr>
          <a:xfrm>
            <a:off x="8153280" y="5867280"/>
            <a:ext cx="662040" cy="73836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38360"/>
              <a:gd name="textAreaBottom" fmla="*/ 695520 h 738360"/>
            </a:gdLst>
            <a:ahLst/>
            <a:rect l="textAreaLeft" t="textAreaTop" r="textAreaRight" b="textAreaBottom"/>
            <a:pathLst>
              <a:path w="21600" h="24089">
                <a:moveTo>
                  <a:pt x="0" y="0"/>
                </a:moveTo>
                <a:lnTo>
                  <a:pt x="21600" y="0"/>
                </a:lnTo>
                <a:lnTo>
                  <a:pt x="21600" y="24089"/>
                </a:lnTo>
                <a:lnTo>
                  <a:pt x="0" y="24089"/>
                </a:lnTo>
                <a:close/>
              </a:path>
              <a:path fill="lightenLess" w="21600" h="240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9">
                <a:moveTo>
                  <a:pt x="21600" y="0"/>
                </a:moveTo>
                <a:lnTo>
                  <a:pt x="21600" y="24089"/>
                </a:lnTo>
                <a:lnTo>
                  <a:pt x="20200" y="22689"/>
                </a:lnTo>
                <a:lnTo>
                  <a:pt x="20200" y="1400"/>
                </a:lnTo>
                <a:close/>
              </a:path>
              <a:path fill="darkenLess" w="21600" h="24089">
                <a:moveTo>
                  <a:pt x="21600" y="24089"/>
                </a:moveTo>
                <a:lnTo>
                  <a:pt x="0" y="24089"/>
                </a:lnTo>
                <a:lnTo>
                  <a:pt x="1400" y="22689"/>
                </a:lnTo>
                <a:lnTo>
                  <a:pt x="20200" y="22689"/>
                </a:lnTo>
                <a:close/>
              </a:path>
              <a:path fill="lighten" w="21600" h="24089">
                <a:moveTo>
                  <a:pt x="0" y="240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9"/>
                </a:lnTo>
                <a:close/>
              </a:path>
              <a:path fill="darken" w="21600" h="24089">
                <a:moveTo>
                  <a:pt x="3794" y="12044"/>
                </a:moveTo>
                <a:lnTo>
                  <a:pt x="17806" y="5038"/>
                </a:lnTo>
                <a:lnTo>
                  <a:pt x="17806" y="19051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Question #6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your family was moving and you could only take three of your own items, what would they b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6" descr="MCj04063820000[1]"/>
          <p:cNvPicPr/>
          <p:nvPr/>
        </p:nvPicPr>
        <p:blipFill>
          <a:blip r:embed="rId1"/>
          <a:stretch/>
        </p:blipFill>
        <p:spPr>
          <a:xfrm>
            <a:off x="2743200" y="3657600"/>
            <a:ext cx="3352680" cy="270504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7">
            <a:hlinkClick r:id="" action="ppaction://hlinkshowjump?jump=firstslide"/>
          </p:cNvPr>
          <p:cNvSpPr/>
          <p:nvPr/>
        </p:nvSpPr>
        <p:spPr>
          <a:xfrm>
            <a:off x="8153280" y="5867280"/>
            <a:ext cx="662040" cy="73836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38360"/>
              <a:gd name="textAreaBottom" fmla="*/ 695520 h 738360"/>
            </a:gdLst>
            <a:ahLst/>
            <a:rect l="textAreaLeft" t="textAreaTop" r="textAreaRight" b="textAreaBottom"/>
            <a:pathLst>
              <a:path w="21600" h="24089">
                <a:moveTo>
                  <a:pt x="0" y="0"/>
                </a:moveTo>
                <a:lnTo>
                  <a:pt x="21600" y="0"/>
                </a:lnTo>
                <a:lnTo>
                  <a:pt x="21600" y="24089"/>
                </a:lnTo>
                <a:lnTo>
                  <a:pt x="0" y="24089"/>
                </a:lnTo>
                <a:close/>
              </a:path>
              <a:path fill="lightenLess" w="21600" h="240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9">
                <a:moveTo>
                  <a:pt x="21600" y="0"/>
                </a:moveTo>
                <a:lnTo>
                  <a:pt x="21600" y="24089"/>
                </a:lnTo>
                <a:lnTo>
                  <a:pt x="20200" y="22689"/>
                </a:lnTo>
                <a:lnTo>
                  <a:pt x="20200" y="1400"/>
                </a:lnTo>
                <a:close/>
              </a:path>
              <a:path fill="darkenLess" w="21600" h="24089">
                <a:moveTo>
                  <a:pt x="21600" y="24089"/>
                </a:moveTo>
                <a:lnTo>
                  <a:pt x="0" y="24089"/>
                </a:lnTo>
                <a:lnTo>
                  <a:pt x="1400" y="22689"/>
                </a:lnTo>
                <a:lnTo>
                  <a:pt x="20200" y="22689"/>
                </a:lnTo>
                <a:close/>
              </a:path>
              <a:path fill="lighten" w="21600" h="24089">
                <a:moveTo>
                  <a:pt x="0" y="240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9"/>
                </a:lnTo>
                <a:close/>
              </a:path>
              <a:path fill="darken" w="21600" h="24089">
                <a:moveTo>
                  <a:pt x="3794" y="12044"/>
                </a:moveTo>
                <a:lnTo>
                  <a:pt x="17806" y="5038"/>
                </a:lnTo>
                <a:lnTo>
                  <a:pt x="17806" y="19051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Question #7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your favorite animal and wh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7" descr="MCj03323840000[1]"/>
          <p:cNvPicPr/>
          <p:nvPr/>
        </p:nvPicPr>
        <p:blipFill>
          <a:blip r:embed="rId1"/>
          <a:stretch/>
        </p:blipFill>
        <p:spPr>
          <a:xfrm>
            <a:off x="2819520" y="2895480"/>
            <a:ext cx="3504960" cy="283716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8">
            <a:hlinkClick r:id="" action="ppaction://hlinkshowjump?jump=firstslide"/>
          </p:cNvPr>
          <p:cNvSpPr/>
          <p:nvPr/>
        </p:nvSpPr>
        <p:spPr>
          <a:xfrm>
            <a:off x="8153280" y="5867280"/>
            <a:ext cx="662040" cy="73836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38360"/>
              <a:gd name="textAreaBottom" fmla="*/ 695520 h 738360"/>
            </a:gdLst>
            <a:ahLst/>
            <a:rect l="textAreaLeft" t="textAreaTop" r="textAreaRight" b="textAreaBottom"/>
            <a:pathLst>
              <a:path w="21600" h="24089">
                <a:moveTo>
                  <a:pt x="0" y="0"/>
                </a:moveTo>
                <a:lnTo>
                  <a:pt x="21600" y="0"/>
                </a:lnTo>
                <a:lnTo>
                  <a:pt x="21600" y="24089"/>
                </a:lnTo>
                <a:lnTo>
                  <a:pt x="0" y="24089"/>
                </a:lnTo>
                <a:close/>
              </a:path>
              <a:path fill="lightenLess" w="21600" h="240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9">
                <a:moveTo>
                  <a:pt x="21600" y="0"/>
                </a:moveTo>
                <a:lnTo>
                  <a:pt x="21600" y="24089"/>
                </a:lnTo>
                <a:lnTo>
                  <a:pt x="20200" y="22689"/>
                </a:lnTo>
                <a:lnTo>
                  <a:pt x="20200" y="1400"/>
                </a:lnTo>
                <a:close/>
              </a:path>
              <a:path fill="darkenLess" w="21600" h="24089">
                <a:moveTo>
                  <a:pt x="21600" y="24089"/>
                </a:moveTo>
                <a:lnTo>
                  <a:pt x="0" y="24089"/>
                </a:lnTo>
                <a:lnTo>
                  <a:pt x="1400" y="22689"/>
                </a:lnTo>
                <a:lnTo>
                  <a:pt x="20200" y="22689"/>
                </a:lnTo>
                <a:close/>
              </a:path>
              <a:path fill="lighten" w="21600" h="24089">
                <a:moveTo>
                  <a:pt x="0" y="240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9"/>
                </a:lnTo>
                <a:close/>
              </a:path>
              <a:path fill="darken" w="21600" h="24089">
                <a:moveTo>
                  <a:pt x="3794" y="12044"/>
                </a:moveTo>
                <a:lnTo>
                  <a:pt x="17806" y="5038"/>
                </a:lnTo>
                <a:lnTo>
                  <a:pt x="17806" y="19051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Question #8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kes a good frie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7" descr="MCj04159860000[1]"/>
          <p:cNvPicPr/>
          <p:nvPr/>
        </p:nvPicPr>
        <p:blipFill>
          <a:blip r:embed="rId1"/>
          <a:stretch/>
        </p:blipFill>
        <p:spPr>
          <a:xfrm>
            <a:off x="2819520" y="2743200"/>
            <a:ext cx="3219480" cy="327672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8">
            <a:hlinkClick r:id="" action="ppaction://hlinkshowjump?jump=firstslide"/>
          </p:cNvPr>
          <p:cNvSpPr/>
          <p:nvPr/>
        </p:nvSpPr>
        <p:spPr>
          <a:xfrm>
            <a:off x="8153280" y="5867280"/>
            <a:ext cx="662040" cy="73836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38360"/>
              <a:gd name="textAreaBottom" fmla="*/ 695520 h 738360"/>
            </a:gdLst>
            <a:ahLst/>
            <a:rect l="textAreaLeft" t="textAreaTop" r="textAreaRight" b="textAreaBottom"/>
            <a:pathLst>
              <a:path w="21600" h="24089">
                <a:moveTo>
                  <a:pt x="0" y="0"/>
                </a:moveTo>
                <a:lnTo>
                  <a:pt x="21600" y="0"/>
                </a:lnTo>
                <a:lnTo>
                  <a:pt x="21600" y="24089"/>
                </a:lnTo>
                <a:lnTo>
                  <a:pt x="0" y="24089"/>
                </a:lnTo>
                <a:close/>
              </a:path>
              <a:path fill="lightenLess" w="21600" h="240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9">
                <a:moveTo>
                  <a:pt x="21600" y="0"/>
                </a:moveTo>
                <a:lnTo>
                  <a:pt x="21600" y="24089"/>
                </a:lnTo>
                <a:lnTo>
                  <a:pt x="20200" y="22689"/>
                </a:lnTo>
                <a:lnTo>
                  <a:pt x="20200" y="1400"/>
                </a:lnTo>
                <a:close/>
              </a:path>
              <a:path fill="darkenLess" w="21600" h="24089">
                <a:moveTo>
                  <a:pt x="21600" y="24089"/>
                </a:moveTo>
                <a:lnTo>
                  <a:pt x="0" y="24089"/>
                </a:lnTo>
                <a:lnTo>
                  <a:pt x="1400" y="22689"/>
                </a:lnTo>
                <a:lnTo>
                  <a:pt x="20200" y="22689"/>
                </a:lnTo>
                <a:close/>
              </a:path>
              <a:path fill="lighten" w="21600" h="24089">
                <a:moveTo>
                  <a:pt x="0" y="240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9"/>
                </a:lnTo>
                <a:close/>
              </a:path>
              <a:path fill="darken" w="21600" h="24089">
                <a:moveTo>
                  <a:pt x="3794" y="12044"/>
                </a:moveTo>
                <a:lnTo>
                  <a:pt x="17806" y="5038"/>
                </a:lnTo>
                <a:lnTo>
                  <a:pt x="17806" y="19051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22:25:14Z</dcterms:created>
  <dc:creator>KU</dc:creator>
  <dc:description/>
  <dc:language>en-US</dc:language>
  <cp:lastModifiedBy>Kutztown University</cp:lastModifiedBy>
  <dcterms:modified xsi:type="dcterms:W3CDTF">2009-04-13T22:29:25Z</dcterms:modified>
  <cp:revision>22</cp:revision>
  <dc:subject/>
  <dc:title>What’s Interesting About ME?</dc:title>
</cp:coreProperties>
</file>